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3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A2BF-BEF2-4AF7-9E25-4B72E5315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6E49-A8F6-406A-B8B6-FD38A656A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FDC1-742D-49E2-9DA4-594BFE08D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9A32-2B6F-4E9A-9E9C-179071B37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AE88-E302-4010-BF79-33B6BFF14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F9F6-FACA-43BC-8FCF-F8DCA45A9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0150-79C2-43DD-9926-26611D649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CE4C-429F-468F-AD56-C59058AD1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C629-88D9-413B-8F49-8B50AFAFE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A21F-EF31-4258-B0ED-208B47CA4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AD1F-5140-4FDB-9490-E768DE67E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EBC6-294F-4EA5-B517-3500D492A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2165-CDC2-4AD6-A6BB-70B5286DF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9C74-595A-4309-A025-2BA421589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47D4-89BD-41BA-821A-043BBC63F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A231-4CA1-407D-9092-ACC54B027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7A6A-2A9C-4EEC-85F7-83A2EF185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A5C2-F951-4DDB-B9E0-7DB81AD91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650-EE05-4502-BCAA-9BD274BA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3F8-C7BE-4EB0-BBE6-69144C5F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6C8-A856-4080-AA5F-5C40FDD3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DD5-BD90-46B5-AF03-8BB389FC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B59-C8C7-4E39-AA10-A1EDFD1F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538-5E61-4E10-BB40-19D0A540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53D-9B1F-4F77-87E0-1663CBCE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CD4-1993-4144-8659-9BEE3CD8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177-6826-46A8-B876-3442B773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95C-E42A-41C7-98E8-50F9A731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EE90-75FE-48B2-A7EB-29A4C915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EEB-A8AA-4DCF-AA68-767A16B5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08DB-8AAB-43B4-B9FD-BA77559F7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impresiv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slide" Target="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file:///tmp/home/.config/libreoffice/4/user/gallery/lets_get_ready_to_rumble_short.wav" TargetMode="Externa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somebody_stop_me.wav" TargetMode="External"/><Relationship Id="rId6" Type="http://schemas.openxmlformats.org/officeDocument/2006/relationships/hyperlink" Target="file:///tmp/home/.config/libreoffice/4/user/gallery/smartest_man_alive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tmp/home/.config/libreoffice/4/user/gallery/cashreg.wav" TargetMode="External"/><Relationship Id="rId9" Type="http://schemas.openxmlformats.org/officeDocument/2006/relationships/hyperlink" Target="file:///tmp/home/.config/libreoffice/4/user/gallery/Mr._Burns_-_Excellent.wav" TargetMode="Externa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hyperlink" Target="file:///tmp/home/.config/libreoffice/4/user/gallery/cashreg.wav" TargetMode="External"/><Relationship Id="rId12" Type="http://schemas.openxmlformats.org/officeDocument/2006/relationships/hyperlink" Target="file:///tmp/home/.config/libreoffice/4/user/gallery/smartest_man_alive.wav" TargetMode="External"/><Relationship Id="rId13" Type="http://schemas.openxmlformats.org/officeDocument/2006/relationships/hyperlink" Target="file:///tmp/home/.config/libreoffice/4/user/gallery/Mr._Burns_-_Excellent.wav" TargetMode="External"/><Relationship Id="rId14" Type="http://schemas.openxmlformats.org/officeDocument/2006/relationships/hyperlink" Target="file:///tmp/home/.config/libreoffice/4/user/gallery/somebody_stop_me.wav" TargetMode="External"/><Relationship Id="rId15" Type="http://schemas.openxmlformats.org/officeDocument/2006/relationships/hyperlink" Target="file:///tmp/home/.config/libreoffice/4/user/gallery/somebody_stop_me.wav" TargetMode="External"/><Relationship Id="rId16" Type="http://schemas.openxmlformats.org/officeDocument/2006/relationships/hyperlink" Target="file:///tmp/home/.config/libreoffice/4/user/gallery/Homer-DOH.wav" TargetMode="External"/><Relationship Id="rId17" Type="http://schemas.openxmlformats.org/officeDocument/2006/relationships/hyperlink" Target="file:///tmp/home/.config/libreoffice/4/user/gallery/so_sad.wav" TargetMode="External"/><Relationship Id="rId18" Type="http://schemas.openxmlformats.org/officeDocument/2006/relationships/hyperlink" Target="file:///tmp/home/.config/libreoffice/4/user/gallery/so_sad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Homer-DOH.wav" TargetMode="External"/><Relationship Id="rId23" Type="http://schemas.openxmlformats.org/officeDocument/2006/relationships/hyperlink" Target="file:///tmp/home/.config/libreoffice/4/user/gallery/wrong.wav" TargetMode="External"/><Relationship Id="rId24" Type="http://schemas.openxmlformats.org/officeDocument/2006/relationships/hyperlink" Target="file:///tmp/home/.config/libreoffice/4/user/gallery/really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so_sad.wav" TargetMode="External"/><Relationship Id="rId27" Type="http://schemas.openxmlformats.org/officeDocument/2006/relationships/hyperlink" Target="file:///tmp/home/.config/libreoffice/4/user/gallery/Homer-DOH.wav" TargetMode="External"/><Relationship Id="rId28" Type="http://schemas.openxmlformats.org/officeDocument/2006/relationships/hyperlink" Target="file:///tmp/home/.config/libreoffice/4/user/gallery/impresive.wav" TargetMode="External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Homer-DOH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Figurative Language G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discover the missing picture by answering questions about figurative langu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Mj03368980000[1]"/>
          <p:cNvPicPr/>
          <p:nvPr/>
        </p:nvPicPr>
        <p:blipFill>
          <a:blip r:embed="rId2"/>
          <a:stretch/>
        </p:blipFill>
        <p:spPr>
          <a:xfrm>
            <a:off x="3657600" y="1828800"/>
            <a:ext cx="2286000" cy="20289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7">
            <a:hlinkClick r:id="" action="ppaction://hlinkshowjump?jump=nextslide"/>
          </p:cNvPr>
          <p:cNvSpPr/>
          <p:nvPr/>
        </p:nvSpPr>
        <p:spPr>
          <a:xfrm>
            <a:off x="2819520" y="5943600"/>
            <a:ext cx="3733560" cy="609480"/>
          </a:xfrm>
          <a:custGeom>
            <a:avLst/>
            <a:gdLst>
              <a:gd name="textAreaLeft" fmla="*/ 39240 w 3733560"/>
              <a:gd name="textAreaRight" fmla="*/ 3694320 w 3733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32252" h="21600">
                <a:moveTo>
                  <a:pt x="0" y="0"/>
                </a:moveTo>
                <a:lnTo>
                  <a:pt x="132252" y="0"/>
                </a:lnTo>
                <a:lnTo>
                  <a:pt x="132252" y="21600"/>
                </a:lnTo>
                <a:lnTo>
                  <a:pt x="0" y="21600"/>
                </a:lnTo>
                <a:close/>
              </a:path>
              <a:path fill="lightenLess" w="132252" h="21600">
                <a:moveTo>
                  <a:pt x="0" y="0"/>
                </a:moveTo>
                <a:lnTo>
                  <a:pt x="132252" y="0"/>
                </a:lnTo>
                <a:lnTo>
                  <a:pt x="130852" y="1400"/>
                </a:lnTo>
                <a:lnTo>
                  <a:pt x="1400" y="1400"/>
                </a:lnTo>
                <a:close/>
              </a:path>
              <a:path fill="darken" w="132252" h="21600">
                <a:moveTo>
                  <a:pt x="132252" y="0"/>
                </a:moveTo>
                <a:lnTo>
                  <a:pt x="132252" y="21600"/>
                </a:lnTo>
                <a:lnTo>
                  <a:pt x="130852" y="20200"/>
                </a:lnTo>
                <a:lnTo>
                  <a:pt x="130852" y="1400"/>
                </a:lnTo>
                <a:close/>
              </a:path>
              <a:path fill="darkenLess" w="132252" h="21600">
                <a:moveTo>
                  <a:pt x="132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52" y="20200"/>
                </a:lnTo>
                <a:close/>
              </a:path>
              <a:path fill="lighten" w="132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here to read th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8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0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9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6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2485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60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51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1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05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62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8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11">
            <a:hlinkClick r:id="rId4" action="ppaction://hlinksldjump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3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0" name="Text Box 65"/>
          <p:cNvSpPr/>
          <p:nvPr/>
        </p:nvSpPr>
        <p:spPr>
          <a:xfrm>
            <a:off x="1752480" y="2286000"/>
            <a:ext cx="17528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have found my dog Chloe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he finish button for a surpri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4" descr="MMj02867450000[1]"/>
          <p:cNvPicPr/>
          <p:nvPr/>
        </p:nvPicPr>
        <p:blipFill>
          <a:blip r:embed="rId1"/>
          <a:stretch/>
        </p:blipFill>
        <p:spPr>
          <a:xfrm>
            <a:off x="533520" y="838080"/>
            <a:ext cx="2305080" cy="22035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5" descr="MMj02867450000[1]"/>
          <p:cNvPicPr/>
          <p:nvPr/>
        </p:nvPicPr>
        <p:blipFill>
          <a:blip r:embed="rId2"/>
          <a:stretch/>
        </p:blipFill>
        <p:spPr>
          <a:xfrm>
            <a:off x="1905120" y="3657600"/>
            <a:ext cx="2305080" cy="220356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6" descr="MMj02867450000[1]"/>
          <p:cNvPicPr/>
          <p:nvPr/>
        </p:nvPicPr>
        <p:blipFill>
          <a:blip r:embed="rId3"/>
          <a:stretch/>
        </p:blipFill>
        <p:spPr>
          <a:xfrm>
            <a:off x="3581280" y="838080"/>
            <a:ext cx="2305080" cy="22035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7" descr="MMj02867450000[1]"/>
          <p:cNvPicPr/>
          <p:nvPr/>
        </p:nvPicPr>
        <p:blipFill>
          <a:blip r:embed="rId4"/>
          <a:stretch/>
        </p:blipFill>
        <p:spPr>
          <a:xfrm>
            <a:off x="6400800" y="838080"/>
            <a:ext cx="2305080" cy="220356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8" descr="MMj02867450000[1]"/>
          <p:cNvPicPr/>
          <p:nvPr/>
        </p:nvPicPr>
        <p:blipFill>
          <a:blip r:embed="rId5"/>
          <a:stretch/>
        </p:blipFill>
        <p:spPr>
          <a:xfrm>
            <a:off x="5105520" y="3657600"/>
            <a:ext cx="2305080" cy="220356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10"/>
          <p:cNvSpPr/>
          <p:nvPr/>
        </p:nvSpPr>
        <p:spPr>
          <a:xfrm>
            <a:off x="228600" y="1371600"/>
            <a:ext cx="86868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WordArt 9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 WIN!!!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8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8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8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8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8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8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WordArt 4"/>
          <p:cNvSpPr txBox="1"/>
          <p:nvPr/>
        </p:nvSpPr>
        <p:spPr>
          <a:xfrm>
            <a:off x="2286000" y="380880"/>
            <a:ext cx="510552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RONG!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19" name="Picture 5" descr="MCj02420010000[1]"/>
          <p:cNvPicPr/>
          <p:nvPr/>
        </p:nvPicPr>
        <p:blipFill>
          <a:blip r:embed="rId1"/>
          <a:stretch/>
        </p:blipFill>
        <p:spPr>
          <a:xfrm>
            <a:off x="3124080" y="2286000"/>
            <a:ext cx="2994120" cy="3352680"/>
          </a:xfrm>
          <a:prstGeom prst="rect">
            <a:avLst/>
          </a:prstGeom>
          <a:ln w="0">
            <a:noFill/>
          </a:ln>
        </p:spPr>
      </p:pic>
      <p:sp>
        <p:nvSpPr>
          <p:cNvPr id="820" name="AutoShape 6">
            <a:hlinkClick r:id="" action="ppaction://hlinkshowjump?jump=previousslide"/>
          </p:cNvPr>
          <p:cNvSpPr/>
          <p:nvPr/>
        </p:nvSpPr>
        <p:spPr>
          <a:xfrm>
            <a:off x="1752480" y="5791320"/>
            <a:ext cx="5715000" cy="761760"/>
          </a:xfrm>
          <a:custGeom>
            <a:avLst/>
            <a:gdLst>
              <a:gd name="textAreaLeft" fmla="*/ 49320 w 5715000"/>
              <a:gd name="textAreaRight" fmla="*/ 5665680 w 5715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61985" h="21600">
                <a:moveTo>
                  <a:pt x="0" y="0"/>
                </a:moveTo>
                <a:lnTo>
                  <a:pt x="161985" y="0"/>
                </a:lnTo>
                <a:lnTo>
                  <a:pt x="161985" y="21600"/>
                </a:lnTo>
                <a:lnTo>
                  <a:pt x="0" y="21600"/>
                </a:lnTo>
                <a:close/>
              </a:path>
              <a:path fill="lightenLess" w="161985" h="21600">
                <a:moveTo>
                  <a:pt x="0" y="0"/>
                </a:moveTo>
                <a:lnTo>
                  <a:pt x="161985" y="0"/>
                </a:lnTo>
                <a:lnTo>
                  <a:pt x="160585" y="1400"/>
                </a:lnTo>
                <a:lnTo>
                  <a:pt x="1400" y="1400"/>
                </a:lnTo>
                <a:close/>
              </a:path>
              <a:path fill="darken" w="161985" h="21600">
                <a:moveTo>
                  <a:pt x="161985" y="0"/>
                </a:moveTo>
                <a:lnTo>
                  <a:pt x="161985" y="21600"/>
                </a:lnTo>
                <a:lnTo>
                  <a:pt x="160585" y="20200"/>
                </a:lnTo>
                <a:lnTo>
                  <a:pt x="160585" y="1400"/>
                </a:lnTo>
                <a:close/>
              </a:path>
              <a:path fill="darkenLess" w="161985" h="21600">
                <a:moveTo>
                  <a:pt x="161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585" y="20200"/>
                </a:lnTo>
                <a:close/>
              </a:path>
              <a:path fill="lighten" w="161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Sun"/>
              </a:rPr>
              <a:t>Click here to 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Gam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 each clue and click the type of figurative language that matches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you are right, small squares will disappear from the picture on the right.  Try to guess the picture with each c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you are wrong,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you get to the end, enjoy your celeb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Cj03838120000[1]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2920" y="5029200"/>
            <a:ext cx="1676160" cy="1549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666880" y="5410080"/>
            <a:ext cx="3505320" cy="70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he magnifying glass to start the ga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6172200" y="56386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5"/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5">
            <a:hlinkClick r:id="rId3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7">
            <a:hlinkClick r:id="" action="ppaction://hlinkshowjump?jump=nextslide"/>
            <a:hlinkClick r:id="rId5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8">
            <a:hlinkClick r:id="" action="ppaction://hlinkshowjump?jump=nextslide"/>
            <a:hlinkClick r:id="rId6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9">
            <a:hlinkClick r:id="" action="ppaction://hlinkshowjump?jump=nextslide"/>
            <a:hlinkClick r:id="rId7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0">
            <a:hlinkClick r:id="" action="ppaction://hlinkshowjump?jump=nextslide"/>
            <a:hlinkClick r:id="rId8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1">
            <a:hlinkClick r:id="" action="ppaction://hlinkshowjump?jump=nextslide"/>
            <a:hlinkClick r:id="rId9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2">
            <a:hlinkClick r:id="" action="ppaction://hlinkshowjump?jump=nextslide"/>
            <a:hlinkClick r:id="rId10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3">
            <a:hlinkClick r:id="" action="ppaction://hlinkshowjump?jump=nextslide"/>
            <a:hlinkClick r:id="rId11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4">
            <a:hlinkClick r:id="" action="ppaction://hlinkshowjump?jump=nextslide"/>
            <a:hlinkClick r:id="rId12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5">
            <a:hlinkClick r:id="" action="ppaction://hlinkshowjump?jump=nextslide"/>
            <a:hlinkClick r:id="rId13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6">
            <a:hlinkClick r:id="" action="ppaction://hlinkshowjump?jump=nextslide"/>
            <a:hlinkClick r:id="rId14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7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8">
            <a:hlinkClick r:id="" action="ppaction://hlinkshowjump?jump=lastslide"/>
            <a:hlinkClick r:id="rId16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9">
            <a:hlinkClick r:id="" action="ppaction://hlinkshowjump?jump=lastslide"/>
            <a:hlinkClick r:id="rId17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0">
            <a:hlinkClick r:id="" action="ppaction://hlinkshowjump?jump=lastslide"/>
            <a:hlinkClick r:id="rId18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1">
            <a:hlinkClick r:id="" action="ppaction://hlinkshowjump?jump=lastslide"/>
            <a:hlinkClick r:id="rId19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2">
            <a:hlinkClick r:id="" action="ppaction://hlinkshowjump?jump=lastslide"/>
            <a:hlinkClick r:id="rId20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3">
            <a:hlinkClick r:id="" action="ppaction://hlinkshowjump?jump=lastslide"/>
            <a:hlinkClick r:id="rId21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4">
            <a:hlinkClick r:id="" action="ppaction://hlinkshowjump?jump=lastslide"/>
            <a:hlinkClick r:id="rId22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5">
            <a:hlinkClick r:id="" action="ppaction://hlinkshowjump?jump=lastslide"/>
            <a:hlinkClick r:id="rId23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6">
            <a:hlinkClick r:id="" action="ppaction://hlinkshowjump?jump=lastslide"/>
            <a:hlinkClick r:id="rId24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7">
            <a:hlinkClick r:id="" action="ppaction://hlinkshowjump?jump=lastslide"/>
            <a:hlinkClick r:id="rId25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8">
            <a:hlinkClick r:id="" action="ppaction://hlinkshowjump?jump=lastslide"/>
            <a:hlinkClick r:id="rId26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9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0"/>
          <p:cNvSpPr/>
          <p:nvPr/>
        </p:nvSpPr>
        <p:spPr>
          <a:xfrm>
            <a:off x="53341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4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5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6"/>
          <p:cNvSpPr/>
          <p:nvPr/>
        </p:nvSpPr>
        <p:spPr>
          <a:xfrm>
            <a:off x="53341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7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8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9"/>
          <p:cNvSpPr/>
          <p:nvPr/>
        </p:nvSpPr>
        <p:spPr>
          <a:xfrm>
            <a:off x="80773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0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1"/>
          <p:cNvSpPr/>
          <p:nvPr/>
        </p:nvSpPr>
        <p:spPr>
          <a:xfrm>
            <a:off x="67057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2"/>
          <p:cNvSpPr/>
          <p:nvPr/>
        </p:nvSpPr>
        <p:spPr>
          <a:xfrm>
            <a:off x="80773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3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4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5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6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7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8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9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0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1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2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3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4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5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6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77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9" name="Text Box 78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9">
            <a:hlinkClick r:id="" action="ppaction://hlinkshowjump?jump=nextslide"/>
            <a:hlinkClick r:id="rId28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53341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6"/>
          <p:cNvSpPr/>
          <p:nvPr/>
        </p:nvSpPr>
        <p:spPr>
          <a:xfrm>
            <a:off x="80773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8"/>
          <p:cNvSpPr/>
          <p:nvPr/>
        </p:nvSpPr>
        <p:spPr>
          <a:xfrm>
            <a:off x="67057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9"/>
          <p:cNvSpPr/>
          <p:nvPr/>
        </p:nvSpPr>
        <p:spPr>
          <a:xfrm>
            <a:off x="80773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1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2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6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3"/>
          <p:cNvSpPr/>
          <p:nvPr/>
        </p:nvSpPr>
        <p:spPr>
          <a:xfrm>
            <a:off x="53341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6"/>
          <p:cNvSpPr/>
          <p:nvPr/>
        </p:nvSpPr>
        <p:spPr>
          <a:xfrm>
            <a:off x="80773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67057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3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5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6"/>
          <p:cNvSpPr/>
          <p:nvPr/>
        </p:nvSpPr>
        <p:spPr>
          <a:xfrm>
            <a:off x="80773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8"/>
          <p:cNvSpPr/>
          <p:nvPr/>
        </p:nvSpPr>
        <p:spPr>
          <a:xfrm>
            <a:off x="67057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1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4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6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6"/>
          <p:cNvSpPr/>
          <p:nvPr/>
        </p:nvSpPr>
        <p:spPr>
          <a:xfrm>
            <a:off x="80773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1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5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6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1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6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5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7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83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9T13:50:52Z</dcterms:created>
  <dc:creator>conted</dc:creator>
  <dc:description/>
  <dc:language>en-US</dc:language>
  <cp:lastModifiedBy>LK</cp:lastModifiedBy>
  <dcterms:modified xsi:type="dcterms:W3CDTF">2011-02-24T13:18:18Z</dcterms:modified>
  <cp:revision>6</cp:revision>
  <dc:subject/>
  <dc:title>Slide 1</dc:title>
</cp:coreProperties>
</file>